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353F-7E7A-4C31-8CBD-891C88B74B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1C1-8F69-4CD1-B81B-4435C227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E03-72F0-4541-B3D8-D3AF4A27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085-DB16-42F2-B653-668BD4FB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BBE-0789-421E-B70C-B535E82B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418-FCDC-44AB-B551-9DC55B6E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8FD-6C87-4A27-8FEE-BC531647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6D4-20DE-4B7A-9FCE-4EB2112A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B63-61E3-4227-A665-40E7CA6B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2CB-408A-4B31-939B-6E6370F2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90B-7E93-42B1-A8E3-F55DF861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70D7-C285-4BA8-BD3F-0D4AD1D7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498-B63B-4DCE-AD4C-A298AD32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BDB2-E8DD-4DE9-9231-2B586EC32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mehumanistas.org/" TargetMode="External"/><Relationship Id="rId2" Type="http://schemas.openxmlformats.org/officeDocument/2006/relationships/hyperlink" Target="http://www.cmehumanistas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Les Méthod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développées par les courant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pensée influen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Times New Roman"/>
              </a:rPr>
              <a:t>la façon de vo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32767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Times New Roman"/>
              </a:rPr>
              <a:t>d'interpré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4038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Times New Roman"/>
              </a:rPr>
              <a:t>de pen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876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Times New Roman"/>
              </a:rPr>
              <a:t>d'organ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56386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les socié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logo_cehba_horiz" descr=""/>
          <p:cNvPicPr/>
          <p:nvPr/>
        </p:nvPicPr>
        <p:blipFill>
          <a:blip r:embed="rId1"/>
          <a:srcRect l="0" t="0" r="66594" b="0"/>
          <a:stretch/>
        </p:blipFill>
        <p:spPr>
          <a:xfrm>
            <a:off x="1600200" y="0"/>
            <a:ext cx="586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éfér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990720"/>
            <a:ext cx="7467480" cy="54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Sou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 :  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Atelier sur la  méthode CEH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Les Editions Réfé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Images: Wikipe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Intervenan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Sylvie Fornasi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sylvie.fornasier@fre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Jean-Michel Baroch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jeanmichel_b@yahoo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Michel Darracq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michel.darracq@fre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Philippe Mo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ph.moal@fre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Productions matériels graphiqu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Isabelle Chap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ichapre@hot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ea typeface="msgothic"/>
                <a:hlinkClick r:id="rId1"/>
              </a:rPr>
              <a:t>http://www.cmehumanistas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ea typeface="msgothic"/>
                <a:hlinkClick r:id="rId2"/>
              </a:rPr>
              <a:t>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msgothic"/>
              </a:rPr>
              <a:t>25/05/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ORMULER UNE QUES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590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vec pré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429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ns ambiguï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724280"/>
            <a:ext cx="937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L EST LE PROBLEM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est cela le point de dé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DEFINIR UN 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OBJET D’ETU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72428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’est ce qui nous intéresse dans cette étud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NALYSE DU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ROBLE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105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886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CEINTE MAJE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105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CEINTE MINE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86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CEINTE MOY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NALYSE DU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ROBLE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I D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038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I D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I DE CONCOM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NALYSE DU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ROBLE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I DE DEPASSEMENT DE L’ANCIEN PAR LE NOUV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FFEREN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NALYSE DU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ROBLE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i permette d’avoir des critères pour ag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LABORER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NE REPONS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 rédact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3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EALISER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N RAPPORT FINAL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22:26:19Z</dcterms:created>
  <dc:creator>Philippe Moal</dc:creator>
  <dc:description/>
  <dc:language>en-US</dc:language>
  <cp:lastModifiedBy>Philippe Moal</cp:lastModifiedBy>
  <dcterms:modified xsi:type="dcterms:W3CDTF">2007-05-26T13:30:22Z</dcterms:modified>
  <cp:revision>4</cp:revision>
  <dc:subject/>
  <dc:title>Présentation PowerPoint</dc:title>
</cp:coreProperties>
</file>