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360" y="-8340840"/>
            <a:ext cx="360" cy="180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8340840"/>
            <a:ext cx="1440" cy="180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CBD-E5FB-455F-9AE5-7C0E7C5B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E68-D885-43E4-B986-16199600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AEC-0CBC-4F4A-8DE6-BD0EE962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EAC-8E28-4D03-AD1E-4E1A60DA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87C-2717-4BFE-AE83-804AC6D8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D8B-7594-43B9-A21D-263246D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C59-53C5-4FBE-BBBD-519CC037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B10-724D-4D49-97DD-E424CBAF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7D5-EB53-4ABF-9D62-9D474587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714-9EF9-42AC-8EA9-8DDE6B5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CB8-42F6-43B5-BDE8-2842949B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E86-B508-4F5C-880A-3BE0FFA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1F82D-B8C7-48FA-82BF-6A03B84A55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628" b="0"/>
          <a:stretch/>
        </p:blipFill>
        <p:spPr>
          <a:xfrm>
            <a:off x="0" y="0"/>
            <a:ext cx="60948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601200" y="380880"/>
            <a:ext cx="8550360" cy="1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76320"/>
            <a:ext cx="777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ctr">
              <a:lnSpc>
                <a:spcPct val="8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éthode structurelle dyna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8040" y="533520"/>
            <a:ext cx="3887640" cy="611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908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81480" y="901800"/>
            <a:ext cx="3429000" cy="251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3120" y="3946680"/>
            <a:ext cx="495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d4d4d"/>
                </a:solidFill>
                <a:latin typeface="Trebuchet MS"/>
              </a:rPr>
              <a:t>Une méthode p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d4d4d"/>
                </a:solidFill>
                <a:latin typeface="Trebuchet MS"/>
              </a:rPr>
              <a:t>y voir clair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8487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stoire de la philosophie - Frise chro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211400"/>
            <a:ext cx="8839440" cy="44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380520"/>
            <a:ext cx="7848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ères chronologiques sur la Méthode en Philoso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1447920"/>
            <a:ext cx="8953560" cy="358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58128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-5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.0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.500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2557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éracl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450 -48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arménid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520 -45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666880"/>
            <a:ext cx="175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cr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469 –39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lat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427 –34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rist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-384 –32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819520"/>
            <a:ext cx="1067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 August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354 43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2378160"/>
            <a:ext cx="198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oma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’Aqu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225 1274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cart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596 165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352680"/>
            <a:ext cx="838440" cy="15264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2743200"/>
            <a:ext cx="533520" cy="152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352680"/>
            <a:ext cx="609840" cy="152640"/>
          </a:xfrm>
          <a:prstGeom prst="flowChartTerminator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43800" y="3200400"/>
            <a:ext cx="1219320" cy="304920"/>
          </a:xfrm>
          <a:prstGeom prst="flowChartTerminator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2819520"/>
            <a:ext cx="609840" cy="152280"/>
          </a:xfrm>
          <a:prstGeom prst="flowChartTerminator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3352680"/>
            <a:ext cx="609480" cy="15264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209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a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724 180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g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1770 183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usser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859 1938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teg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(1883 195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i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(1938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505320"/>
            <a:ext cx="8686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191120"/>
            <a:ext cx="281916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191120"/>
            <a:ext cx="358164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MOY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-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4191120"/>
            <a:ext cx="9144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43434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NTIQ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434340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PO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MODER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426708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PHI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NTEMPORA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4191120"/>
            <a:ext cx="129528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3920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éraclite d’Ephèse (-544 –482 av. J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447920"/>
            <a:ext cx="51055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g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’Etre* est éternellement en devenir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 tout se meut sans cess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e qui vit meurt, ce qui est mort devient vivant ; rien n’est plus ceci ou cela,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mais tout le devien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 Et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 en philosophie, exprime ou postule l’existence, la réali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58264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9640" y="687240"/>
            <a:ext cx="7380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'est-ce qui EST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 points de vue opposés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Moal</cp:lastModifiedBy>
  <dcterms:modified xsi:type="dcterms:W3CDTF">2007-07-30T00:22:28Z</dcterms:modified>
  <cp:revision>10</cp:revision>
  <dc:subject/>
  <dc:title>Présentation PowerPoint</dc:title>
</cp:coreProperties>
</file>