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1FE-8D57-4EDC-B86E-FF296027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C6E-1D80-44DC-8B9F-0C09D10F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E81-A81D-48E8-ADE3-7007A2E5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441-966C-4652-B865-4FB982EB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1B4-71A2-4691-9C40-BD33970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40D-6B28-468B-8566-7380E9FB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915-95FA-4744-9233-5E2D0DB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A22-5D92-43AA-8891-604B575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417-8FB6-4685-885E-A3AC69A6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326-064D-47AB-B6A8-C49F0A3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3B0-E7AE-4CDF-8427-F027657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6F-1CDC-4D03-9210-F006659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64531-F9E2-4A5C-AECD-6639845038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Aristoteles_Louvre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rménide d'Élée (en grec Παρμενίδης Parmenídês) (-520 –4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219320"/>
            <a:ext cx="5715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présocr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’Etre est intemporel et continu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Rien ne peut devenir une autre ch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ue ce qu’elle e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70480" y="3313080"/>
            <a:ext cx="180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590840" cy="37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crate (Σωκράτης) (-469 –39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1295280"/>
            <a:ext cx="5333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- Ath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MAIEUTIQUE... ou l’art de faire accouche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es espr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s questions ??? Des questions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ncore des ques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' IRONIE... ou l'art de pousser l'autre dans 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ranchements (intellectuels) comm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511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ton (Πλάτων) (-427 –3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447920"/>
            <a:ext cx="556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DIALECTIQUE... ou la critique constructive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s propositions, des arguments pour approche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gressivement de l’Idée p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2910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istote (Ἀριστοτέλης) (-384 –3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990720"/>
            <a:ext cx="586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 de l’Antiqu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LOGIQUE* = la dialectique + le mouvement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e la r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ois du raisonnement correc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éduction, démonstration, résul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Logique 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cience dont l’objet est de déteminer les règles de la pensée grâce auxquelles on peut atteind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vé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205596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0574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gustin d’Hippone - St Augstin (+354 +4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1295280"/>
            <a:ext cx="464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 chrétien - Cart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ieu détient la Connaissance ul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on y parvient, non par la log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par l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V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cité de Dieu, seule,  est parfai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'est là que se trouvent la connaissance et la vér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338200" cy="304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23:20Z</dcterms:modified>
  <cp:revision>10</cp:revision>
  <dc:subject/>
  <dc:title>Présentation PowerPoint</dc:title>
</cp:coreProperties>
</file>