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-360" y="-8340840"/>
            <a:ext cx="360" cy="180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7FB9-D02D-41F4-8E7A-A94865EC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DBC1-B73A-471F-838E-F5011E15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DB23-4047-49D7-8BC9-7A06E23D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532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532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8DC6-8572-42BD-B1BB-94E1B84D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33F4-21D4-44AB-B122-3D3E88DE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C755-EE2F-43B2-90E9-B8618656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E520-A55D-482D-8E5A-931316BE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9E56-D89E-4B00-9B41-E7D0C770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3040" cy="66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EE24-7B17-4CF9-AE24-4442C5C1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9E71-AE63-45EF-BF6F-F28BC730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5DFF-2BE4-4D52-B740-83FA5D79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B3C5-F4C1-4EDD-A529-D4B4FC37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320" indent="-27612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6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8954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8612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89576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6FBB3-51C6-4727-973E-8408E83787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6628" b="0"/>
          <a:stretch/>
        </p:blipFill>
        <p:spPr>
          <a:xfrm>
            <a:off x="0" y="0"/>
            <a:ext cx="609480" cy="990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H="1">
            <a:off x="601200" y="380880"/>
            <a:ext cx="8550360" cy="1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914400" y="76320"/>
            <a:ext cx="777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 algn="ctr">
              <a:lnSpc>
                <a:spcPct val="80000"/>
              </a:lnSpc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Méthode structurelle dynam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r.wikipedia.org/wiki/Image:Saint_thomas_d_aqui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63240"/>
            <a:ext cx="769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aint Thomas d’Aquin (1225 127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1219320"/>
            <a:ext cx="60199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hilosophe chrétien- Na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La SCOLASTIQUE... ou méthode fondée sur l’étude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et le commentaire des textes religieux et profanes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qui vise à reconciler la logique d’Aristote avec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la théologie chrétien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Veut démontrer logiquement l’existence de Die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fluencé par Aristote, Augustin d'Hipp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39600" y="1382760"/>
            <a:ext cx="9144000" cy="144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295280"/>
            <a:ext cx="228600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363240"/>
            <a:ext cx="769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né Descartes (1596- 165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60720" y="1143000"/>
            <a:ext cx="4637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hilosophe français - Époque Mode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Le DOUTE ordonné, jusqu'à l'apparition d'une intuition évid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je pense donc je suis !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2248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63240"/>
            <a:ext cx="769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né Descartes (1596- 165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1143000"/>
            <a:ext cx="281952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s 4  lois du discou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 la Méthod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’évi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’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a synthèse et le rais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 dénomb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5175360" cy="57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439200"/>
            <a:ext cx="769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mmanuel Kant (1724 -18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1143000"/>
            <a:ext cx="556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hilosophe allemand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On ne peut pas parvenir à la vérité absolu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mais on doit considérer qu'il s'agit de la vérité abso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uvrage majeur :  « Critique de la raison pure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22510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63240"/>
            <a:ext cx="769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Georg W. F. Hegel (1770- 18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1050840"/>
            <a:ext cx="4343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hilosophe allemand 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La vérité absolue est constituée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d’une chose et de son contra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THESE… ANTITHESE… SYNTH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21016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363240"/>
            <a:ext cx="769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dmund Hüsserl (1859 193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990720"/>
            <a:ext cx="54864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hilosophe all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La REDUCTION PHENOMENOLOGIQUE… ou la description des phénomèn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hénomène = Objet + Regard de l'observ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La véritable connaissance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est celle de l’Ess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23209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363240"/>
            <a:ext cx="769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osé Ortega y Gasset (1883 -195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1050840"/>
            <a:ext cx="5257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hilosophe espagnol  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arvenir à la connaissance par l’étude d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25440" indent="-3902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L’obj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25440" indent="-3902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Le Moi qui regarde l’obj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25440" indent="-3902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Les circonstances dans lesquelles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msgothic"/>
              </a:rPr>
              <a:t>se trouvent l’objet et le moi (l’histoire, la sociét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21844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ilippe Moal</cp:lastModifiedBy>
  <dcterms:modified xsi:type="dcterms:W3CDTF">2007-07-30T00:14:49Z</dcterms:modified>
  <cp:revision>10</cp:revision>
  <dc:subject/>
  <dc:title>Présentation PowerPoint</dc:title>
</cp:coreProperties>
</file>