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-360" y="-8340840"/>
            <a:ext cx="360" cy="180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7AB-1084-474B-A044-39E01C74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50C6-61EA-4423-85D5-64EAFD52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4348-1BB5-49BF-AECB-4BBE6AA3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532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532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751-C32D-44BF-B61D-BFD68227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FB59-3E81-4559-942C-CD4D0CC0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58C1-264D-468B-AC5C-D1108826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69E6-561E-4059-9A6B-F90F373E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1672-7389-448F-9626-C596D564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3040" cy="66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10F-5EF7-44BA-B049-F954EF3D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8052-8BB3-44AE-AF4C-AE1F2039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9D6F-0391-43A2-975B-CAECF84D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6D88-B088-46D1-A81A-904A39BB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7612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895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8957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0B761-04E3-4B41-B09D-75393B279A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6628" b="0"/>
          <a:stretch/>
        </p:blipFill>
        <p:spPr>
          <a:xfrm>
            <a:off x="0" y="0"/>
            <a:ext cx="609480" cy="990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H="1">
            <a:off x="601200" y="380880"/>
            <a:ext cx="8550360" cy="1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76320"/>
            <a:ext cx="777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 algn="ctr">
              <a:lnSpc>
                <a:spcPct val="80000"/>
              </a:lnSpc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Méthode structurelle dynam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mehumanistas.org/" TargetMode="External"/><Relationship Id="rId2" Type="http://schemas.openxmlformats.org/officeDocument/2006/relationships/hyperlink" Target="http://www.cmehumanistas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ario Luis Rodriguez Cobos, dit Silo (193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1279440"/>
            <a:ext cx="5333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argent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METHODE STRUCTURELLE DYNA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ut est en structure et en processu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223848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éfér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990720"/>
            <a:ext cx="7467480" cy="54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:   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telier sur la  méthode CEH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s Editions Réfé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ages: Wikiped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ervenan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ylvie Fornasi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ylvie.fornasier@free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ean-Michel Baroch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eanmichel_b@yahoo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chel Darracq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chel.darracq@free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hilippe Moa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h.moal@free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ductions matériels graphiqu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abelle Chap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chapre@hotmai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cmehumanistas.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5/05/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pe Moal</cp:lastModifiedBy>
  <dcterms:modified xsi:type="dcterms:W3CDTF">2007-07-30T00:34:30Z</dcterms:modified>
  <cp:revision>10</cp:revision>
  <dc:subject/>
  <dc:title>Présentation PowerPoint</dc:title>
</cp:coreProperties>
</file>