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-8340840"/>
            <a:ext cx="1440" cy="180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380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12501" t="21762" r="12501" b="33799"/>
          <a:stretch/>
        </p:blipFill>
        <p:spPr>
          <a:xfrm>
            <a:off x="7477200" y="5924520"/>
            <a:ext cx="1666800" cy="933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458200" y="0"/>
            <a:ext cx="685800" cy="5335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Saint_thomas_d_aquin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hyperlink" Target="http://fr.wikipedia.org/wiki/Image:Saint_thomas_d_aquin.jpg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908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5638680"/>
            <a:ext cx="22860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2501" t="21762" r="12501" b="33799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304920"/>
            <a:ext cx="77724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1" lang="fr-FR" sz="5400" spc="-1" strike="noStrike" baseline="4000">
                <a:solidFill>
                  <a:srgbClr val="ff3300"/>
                </a:solidFill>
                <a:latin typeface="Verdana"/>
                <a:ea typeface="Times New Roman"/>
              </a:rPr>
              <a:t>Introduction </a:t>
            </a:r>
            <a:br>
              <a:rPr sz="5400"/>
            </a:br>
            <a:r>
              <a:rPr b="1" lang="fr-FR" sz="5400" spc="-1" strike="noStrike" baseline="4000">
                <a:solidFill>
                  <a:srgbClr val="ff3300"/>
                </a:solidFill>
                <a:latin typeface="Verdana"/>
                <a:ea typeface="Times New Roman"/>
              </a:rPr>
              <a:t>à la </a:t>
            </a:r>
            <a:r>
              <a:rPr b="1" lang="fr-FR" sz="5400" spc="-1" strike="noStrike" baseline="4000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1" lang="fr-FR" sz="5400" spc="-1" strike="noStrike" baseline="4000">
                <a:solidFill>
                  <a:srgbClr val="ff3300"/>
                </a:solidFill>
                <a:latin typeface="Verdana"/>
                <a:ea typeface="Times New Roman"/>
              </a:rPr>
              <a:t>éthode </a:t>
            </a:r>
            <a:br>
              <a:rPr sz="5400"/>
            </a:br>
            <a:r>
              <a:rPr b="1" lang="fr-FR" sz="5400" spc="-1" strike="noStrike" baseline="4000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fr-FR" sz="5400" spc="-1" strike="noStrike" baseline="4000">
                <a:solidFill>
                  <a:srgbClr val="ff3300"/>
                </a:solidFill>
                <a:latin typeface="Verdana"/>
                <a:ea typeface="Times New Roman"/>
              </a:rPr>
              <a:t>tructurelle </a:t>
            </a:r>
            <a:br>
              <a:rPr sz="5400"/>
            </a:br>
            <a:r>
              <a:rPr b="1" lang="fr-FR" sz="5400" spc="-1" strike="noStrike" baseline="4000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1" lang="fr-FR" sz="5400" spc="-1" strike="noStrike" baseline="4000">
                <a:solidFill>
                  <a:srgbClr val="ff3300"/>
                </a:solidFill>
                <a:latin typeface="Verdana"/>
                <a:ea typeface="Times New Roman"/>
              </a:rPr>
              <a:t>ynamique</a:t>
            </a:r>
            <a:r>
              <a:rPr b="1" lang="fr-FR" sz="4000" spc="-1" strike="noStrike" baseline="4000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i="1" lang="fr-FR" sz="2800" spc="-1" strike="noStrike" baseline="4000">
                <a:solidFill>
                  <a:srgbClr val="ff6600"/>
                </a:solidFill>
                <a:latin typeface="Verdana"/>
                <a:ea typeface="Times New Roman"/>
              </a:rPr>
              <a:t>Les différentes méthodes utilisées </a:t>
            </a:r>
            <a:br>
              <a:rPr sz="2800"/>
            </a:br>
            <a:r>
              <a:rPr b="1" i="1" lang="fr-FR" sz="2800" spc="-1" strike="noStrike" baseline="4000">
                <a:solidFill>
                  <a:srgbClr val="ff6600"/>
                </a:solidFill>
                <a:latin typeface="Verdana"/>
                <a:ea typeface="Times New Roman"/>
              </a:rPr>
              <a:t>en philosophie et dans les sciences ; </a:t>
            </a:r>
            <a:br>
              <a:rPr sz="2800"/>
            </a:br>
            <a:r>
              <a:rPr b="1" i="1" lang="fr-FR" sz="2800" spc="-1" strike="noStrike" baseline="4000">
                <a:solidFill>
                  <a:srgbClr val="ff6600"/>
                </a:solidFill>
                <a:latin typeface="Verdana"/>
                <a:ea typeface="Times New Roman"/>
              </a:rPr>
              <a:t>l'apport de la M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Saint Thomas d’Aqui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225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274</a:t>
            </a:r>
            <a:br>
              <a:rPr sz="2800"/>
            </a:br>
            <a:br>
              <a:rPr sz="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chrétien - Naples</a:t>
            </a:r>
            <a:br>
              <a:rPr sz="2000"/>
            </a:br>
            <a:br>
              <a:rPr sz="16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scolastique... ou méthode fondée sur l’étude et le commentair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s textes religieux et profanes,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i vise à reconciler la logique d’Aristote avec la théologi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hrétienne, veut démontrer logiquement l’existence de Dieu. </a:t>
            </a:r>
            <a:br>
              <a:rPr sz="24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luencé par Aristote et Augustin d'Hippo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9600" y="1382760"/>
            <a:ext cx="9144000" cy="144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91968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05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38320" y="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René Descarte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596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650</a:t>
            </a:r>
            <a:br>
              <a:rPr sz="2800"/>
            </a:br>
            <a:br>
              <a:rPr sz="10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français</a:t>
            </a:r>
            <a:br>
              <a:rPr sz="20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Époque Modern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e doute ordonné,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jusqu'à l'apparition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'une intuition évidente.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je pense donc je suis !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960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08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10080" y="380880"/>
            <a:ext cx="37339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s 4  lois du disc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 la Méthode d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né Descart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L’évidence</a:t>
            </a:r>
            <a:br>
              <a:rPr sz="2800"/>
            </a:b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L’analyse</a:t>
            </a:r>
            <a:br>
              <a:rPr sz="2800"/>
            </a:b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La synthèse et </a:t>
            </a:r>
            <a:br>
              <a:rPr sz="2800"/>
            </a:b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le raisonnement</a:t>
            </a:r>
            <a:br>
              <a:rPr sz="2800"/>
            </a:b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Le dénomb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5464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11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16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org Wilhelm Friedrich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Hegel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770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831</a:t>
            </a:r>
            <a:br>
              <a:rPr sz="2800"/>
            </a:br>
            <a:br>
              <a:rPr sz="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allemand   </a:t>
            </a: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vérité absolue est constituée d’une chos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 de son contraire.</a:t>
            </a:r>
            <a:br>
              <a:rPr sz="2400"/>
            </a:br>
            <a:br>
              <a:rPr sz="1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èse… Antithèse… Synthèse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456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14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200"/>
            </a:br>
            <a:br>
              <a:rPr sz="12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Edmund Hüsserl 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859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938</a:t>
            </a:r>
            <a:br>
              <a:rPr sz="2800"/>
            </a:br>
            <a:br>
              <a:rPr sz="10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allemand</a:t>
            </a:r>
            <a:br>
              <a:rPr sz="2000"/>
            </a:br>
            <a:br>
              <a:rPr sz="18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réduction phénoménologique…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u la description des phénomènes…</a:t>
            </a:r>
            <a:br>
              <a:rPr sz="2400"/>
            </a:br>
            <a:br>
              <a:rPr sz="1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hénomène = Objet + Regard de l'observateur</a:t>
            </a:r>
            <a:br>
              <a:rPr sz="2400"/>
            </a:br>
            <a:br>
              <a:rPr sz="1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véritable connaissanc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st celle de l’Essence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144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17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962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br>
              <a:rPr sz="20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José Ortega y Gasset 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88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955</a:t>
            </a:r>
            <a:br>
              <a:rPr sz="2800"/>
            </a:br>
            <a:br>
              <a:rPr sz="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espagnol    </a:t>
            </a:r>
            <a:br>
              <a:rPr sz="2000"/>
            </a:br>
            <a:br>
              <a:rPr sz="32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arvenir à la connaissance par l’étude de ... L’objet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e Moi, qui regarde l’objet,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es circonstances, dans lesquelles se trouvent l’objet et le moi (l’histoire, la société)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812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20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43600" y="0"/>
            <a:ext cx="3200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14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rio Luis Rodriguez Cob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it</a:t>
            </a: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 Sil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938</a:t>
            </a:r>
            <a:br>
              <a:rPr sz="2000"/>
            </a:br>
            <a:br>
              <a:rPr sz="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argentin </a:t>
            </a:r>
            <a:br>
              <a:rPr sz="2000"/>
            </a:br>
            <a:br>
              <a:rPr sz="1000"/>
            </a:b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“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ut est en structure, en relation et en processus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a méthode est l’expression de la dynamique structurelle de la réalité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7564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23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752480" cy="190512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1084320" cy="25146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429000" y="4952880"/>
            <a:ext cx="1724040" cy="190512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562720" y="4952880"/>
            <a:ext cx="1724040" cy="190512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419960" y="3962520"/>
            <a:ext cx="1724040" cy="190476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562720" y="2743200"/>
            <a:ext cx="1724040" cy="190512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3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2514600"/>
            <a:ext cx="1724040" cy="190512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828800" y="2362320"/>
            <a:ext cx="1724040" cy="190476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0" y="1219320"/>
            <a:ext cx="1724040" cy="190476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1981080" y="304920"/>
            <a:ext cx="1724040" cy="190476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34" name="" descr=""/>
          <p:cNvPicPr/>
          <p:nvPr/>
        </p:nvPicPr>
        <p:blipFill>
          <a:blip r:embed="rId12"/>
          <a:stretch/>
        </p:blipFill>
        <p:spPr>
          <a:xfrm>
            <a:off x="4038480" y="152280"/>
            <a:ext cx="1724040" cy="190512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6248520" y="0"/>
            <a:ext cx="1676160" cy="190512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36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381880" cy="550800"/>
          </a:xfrm>
          <a:prstGeom prst="rect">
            <a:avLst/>
          </a:prstGeom>
          <a:solidFill>
            <a:srgbClr val="008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Verdana"/>
              </a:rPr>
              <a:t>Les méthodes de la sc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905120"/>
            <a:ext cx="6172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400" spc="-1" strike="noStrike">
                <a:solidFill>
                  <a:srgbClr val="000000"/>
                </a:solidFill>
                <a:latin typeface="Verdana"/>
              </a:rPr>
              <a:t>déductives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400" spc="-1" strike="noStrike">
                <a:solidFill>
                  <a:srgbClr val="000000"/>
                </a:solidFill>
                <a:latin typeface="Verdana"/>
              </a:rPr>
              <a:t>inductives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ff99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400" spc="-1" strike="noStrike">
                <a:solidFill>
                  <a:srgbClr val="000000"/>
                </a:solidFill>
                <a:latin typeface="Verdana"/>
              </a:rPr>
              <a:t>hypothético-dédu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7960" y="685800"/>
            <a:ext cx="363708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L’organisation des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209680"/>
            <a:ext cx="1676520" cy="6098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249720"/>
            <a:ext cx="137160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Verdana"/>
              </a:rPr>
              <a:t>Méth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286000"/>
            <a:ext cx="1752480" cy="339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Verdana"/>
              </a:rPr>
              <a:t>Péri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666880"/>
            <a:ext cx="227160" cy="1925640"/>
          </a:xfrm>
          <a:prstGeom prst="downArrow">
            <a:avLst>
              <a:gd name="adj1" fmla="val 50000"/>
              <a:gd name="adj2" fmla="val 2119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523880"/>
            <a:ext cx="676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2286000"/>
            <a:ext cx="1020960" cy="566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3276720"/>
            <a:ext cx="101916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648320"/>
            <a:ext cx="101916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191120"/>
            <a:ext cx="101916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3733920"/>
            <a:ext cx="101916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2286000"/>
            <a:ext cx="1020600" cy="5666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276720"/>
            <a:ext cx="102060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191120"/>
            <a:ext cx="102060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648320"/>
            <a:ext cx="102096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3733920"/>
            <a:ext cx="102060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5029200"/>
            <a:ext cx="4647960" cy="968400"/>
          </a:xfrm>
          <a:prstGeom prst="leftRightArrow">
            <a:avLst>
              <a:gd name="adj1" fmla="val 50000"/>
              <a:gd name="adj2" fmla="val 955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334120"/>
            <a:ext cx="2590920" cy="339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Verdana"/>
              </a:rPr>
              <a:t>Communicati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809880"/>
            <a:ext cx="133668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Verdana"/>
              </a:rPr>
              <a:t>Thé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8381880" cy="550800"/>
          </a:xfrm>
          <a:prstGeom prst="rect">
            <a:avLst/>
          </a:prstGeom>
          <a:solidFill>
            <a:srgbClr val="008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Verdana"/>
              </a:rPr>
              <a:t>Les méthodes de la sc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441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3600" spc="-1" strike="noStrike">
                <a:solidFill>
                  <a:srgbClr val="ff3300"/>
                </a:solidFill>
                <a:latin typeface="Verdana"/>
              </a:rPr>
              <a:t>Sommair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r>
              <a:rPr b="0" lang="fr-FR" sz="800" spc="-1" strike="noStrike">
                <a:solidFill>
                  <a:srgbClr val="ff3300"/>
                </a:solidFill>
                <a:latin typeface="Verdana"/>
              </a:rPr>
              <a:t>………………………………………………………………………………………………………………………………………………………………………………..…..…..</a:t>
            </a: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1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s Méthodes dans l’histoire</a:t>
            </a:r>
            <a:r>
              <a:rPr b="0" lang="fr-FR" sz="800" spc="-1" strike="noStrike">
                <a:solidFill>
                  <a:srgbClr val="ff3300"/>
                </a:solidFill>
                <a:latin typeface="Verdana"/>
              </a:rPr>
              <a:t>…………………………………………………………………………………………………………….....</a:t>
            </a: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3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s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thodes de la science</a:t>
            </a:r>
            <a:r>
              <a:rPr b="0" lang="fr-FR" sz="800" spc="-1" strike="noStrike">
                <a:solidFill>
                  <a:srgbClr val="ff3300"/>
                </a:solidFill>
                <a:latin typeface="Verdana"/>
              </a:rPr>
              <a:t>……………………………………………………………………………………………………….………….…</a:t>
            </a: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18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ondements de la Méthode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du Nouvel humanisme</a:t>
            </a:r>
            <a:r>
              <a:rPr b="0" lang="fr-FR" sz="800" spc="-1" strike="noStrike">
                <a:solidFill>
                  <a:srgbClr val="ff3300"/>
                </a:solidFill>
                <a:latin typeface="Verdana"/>
              </a:rPr>
              <a:t>…….….….</a:t>
            </a: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22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pports du Nouvel humanisme</a:t>
            </a:r>
            <a:r>
              <a:rPr b="0" lang="fr-FR" sz="800" spc="-1" strike="noStrike">
                <a:solidFill>
                  <a:srgbClr val="ff3300"/>
                </a:solidFill>
                <a:latin typeface="Verdana"/>
              </a:rPr>
              <a:t>……………………………………………………….…………………….……………..…….</a:t>
            </a: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26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résentation de la MSD</a:t>
            </a:r>
            <a:r>
              <a:rPr b="0" lang="fr-FR" sz="800" spc="-1" strike="noStrike">
                <a:solidFill>
                  <a:srgbClr val="ff3300"/>
                </a:solidFill>
                <a:latin typeface="Verdana"/>
              </a:rPr>
              <a:t>………………………………………………………………….……………..……………………………………………….….</a:t>
            </a: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31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ources</a:t>
            </a:r>
            <a:r>
              <a:rPr b="0" lang="fr-FR" sz="800" spc="-1" strike="noStrike">
                <a:solidFill>
                  <a:srgbClr val="ff3300"/>
                </a:solidFill>
                <a:latin typeface="Verdana"/>
              </a:rPr>
              <a:t>……………………………………………………………………………………………………………………………………………..…………………………………………………..…………</a:t>
            </a: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6095880"/>
            <a:ext cx="10666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2040" y="685800"/>
            <a:ext cx="357300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Les fondements clas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877640"/>
            <a:ext cx="70102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Verdana"/>
              </a:rPr>
              <a:t>Principes l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761840"/>
            <a:ext cx="228600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es, lois, méth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1761840"/>
            <a:ext cx="2286000" cy="1373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es, lois, méth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1757520"/>
            <a:ext cx="1676160" cy="116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828800" cy="1307880"/>
          </a:xfrm>
          <a:custGeom>
            <a:avLst/>
            <a:gdLst>
              <a:gd name="textAreaLeft" fmla="*/ 609480 w 1828800"/>
              <a:gd name="textAreaRight" fmla="*/ 1566360 w 1828800"/>
              <a:gd name="textAreaTop" fmla="*/ 753120 h 1307880"/>
              <a:gd name="textAreaBottom" fmla="*/ 1120320 h 1307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28080" y="3276720"/>
            <a:ext cx="1846440" cy="1376280"/>
          </a:xfrm>
          <a:custGeom>
            <a:avLst/>
            <a:gdLst>
              <a:gd name="textAreaLeft" fmla="*/ 615600 w 1846440"/>
              <a:gd name="textAreaRight" fmla="*/ 1581480 w 1846440"/>
              <a:gd name="textAreaTop" fmla="*/ 792720 h 1376280"/>
              <a:gd name="textAreaBottom" fmla="*/ 117900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276720"/>
            <a:ext cx="838440" cy="1376280"/>
          </a:xfrm>
          <a:prstGeom prst="upArrow">
            <a:avLst>
              <a:gd name="adj1" fmla="val 50000"/>
              <a:gd name="adj2" fmla="val 41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8381880" cy="550800"/>
          </a:xfrm>
          <a:prstGeom prst="rect">
            <a:avLst/>
          </a:prstGeom>
          <a:solidFill>
            <a:srgbClr val="008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Verdana"/>
              </a:rPr>
              <a:t>Les méthodes de la sc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3400" y="685800"/>
            <a:ext cx="320292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Les principes class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447920"/>
            <a:ext cx="81532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Principe d’identité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“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out ce qui est est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Principe de non contradiction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“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ien ne peut à la fois être et n'être pas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Princip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du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tier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exclu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“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out doit ou bien être ou bien ne pas être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Principe de raison suffisant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(ou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ff3300"/>
                </a:solidFill>
                <a:latin typeface="Verdana"/>
              </a:rPr>
              <a:t>causalité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“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out phénomène a une cause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  <a:ea typeface="msgothic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8381880" cy="550800"/>
          </a:xfrm>
          <a:prstGeom prst="rect">
            <a:avLst/>
          </a:prstGeom>
          <a:solidFill>
            <a:srgbClr val="008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Verdana"/>
              </a:rPr>
              <a:t>Les méthodes de la sc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57400" y="5037840"/>
            <a:ext cx="669780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dements du Pen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3971160"/>
            <a:ext cx="49528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rincipes l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2828160"/>
            <a:ext cx="434340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is univers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1837440"/>
            <a:ext cx="243828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éth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17760"/>
            <a:ext cx="6095880" cy="4597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Sciences, techniques,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752480"/>
            <a:ext cx="1371600" cy="4038840"/>
          </a:xfrm>
          <a:prstGeom prst="upArrow">
            <a:avLst>
              <a:gd name="adj1" fmla="val 50000"/>
              <a:gd name="adj2" fmla="val 73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572000"/>
            <a:ext cx="914400" cy="304920"/>
          </a:xfrm>
          <a:prstGeom prst="upArrow">
            <a:avLst>
              <a:gd name="adj1" fmla="val 47222"/>
              <a:gd name="adj2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3505320"/>
            <a:ext cx="914400" cy="304560"/>
          </a:xfrm>
          <a:prstGeom prst="upArrow">
            <a:avLst>
              <a:gd name="adj1" fmla="val 47222"/>
              <a:gd name="adj2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438280"/>
            <a:ext cx="914400" cy="304920"/>
          </a:xfrm>
          <a:prstGeom prst="upArrow">
            <a:avLst>
              <a:gd name="adj1" fmla="val 47222"/>
              <a:gd name="adj2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Fondements de la Méthode du Nouvel humanis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66080" y="2433600"/>
            <a:ext cx="1703160" cy="39888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Phénomè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4080" y="1467000"/>
            <a:ext cx="3269880" cy="5814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ser humain</a:t>
            </a:r>
            <a:r>
              <a:rPr b="1" lang="en-GB" sz="3200" spc="-1" strike="noStrike">
                <a:solidFill>
                  <a:srgbClr val="008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514600"/>
            <a:ext cx="0" cy="352908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378240"/>
            <a:ext cx="1656000" cy="1655640"/>
          </a:xfrm>
          <a:prstGeom prst="cloudCallout">
            <a:avLst>
              <a:gd name="adj1" fmla="val -29384"/>
              <a:gd name="adj2" fmla="val 470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886200"/>
            <a:ext cx="2401920" cy="457200"/>
          </a:xfrm>
          <a:prstGeom prst="rightArrow">
            <a:avLst>
              <a:gd name="adj1" fmla="val 50000"/>
              <a:gd name="adj2" fmla="val 1313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3505320"/>
            <a:ext cx="1447920" cy="1676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62320" y="2433600"/>
            <a:ext cx="4132440" cy="39888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Représentation du phénomè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17760"/>
            <a:ext cx="6095880" cy="4597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s mécanismes du 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Fondements de la Méthode du Nouvel humanis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52480" y="1523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Verdana"/>
              </a:rPr>
              <a:t>Le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s-ES" sz="2400" spc="-1" strike="noStrike">
                <a:solidFill>
                  <a:srgbClr val="ff3300"/>
                </a:solidFill>
                <a:latin typeface="Verdana"/>
              </a:rPr>
              <a:t>Penser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”</a:t>
            </a:r>
            <a:r>
              <a:rPr b="1" lang="es-ES" sz="2400" spc="-1" strike="noStrike">
                <a:solidFill>
                  <a:srgbClr val="ff3300"/>
                </a:solidFill>
                <a:latin typeface="Verdana"/>
              </a:rPr>
              <a:t> procède par diff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2133720"/>
            <a:ext cx="4032000" cy="39888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ifférence per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572000"/>
            <a:ext cx="2376360" cy="7038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xer un moment du Pen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572000"/>
            <a:ext cx="2376360" cy="7038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xer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inté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4572000"/>
            <a:ext cx="2376360" cy="7038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autres opé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895480"/>
            <a:ext cx="792000" cy="1524240"/>
          </a:xfrm>
          <a:prstGeom prst="downArrow">
            <a:avLst>
              <a:gd name="adj1" fmla="val 50000"/>
              <a:gd name="adj2" fmla="val 481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400000">
            <a:off x="2383920" y="2711160"/>
            <a:ext cx="792360" cy="1962000"/>
          </a:xfrm>
          <a:prstGeom prst="downArrow">
            <a:avLst>
              <a:gd name="adj1" fmla="val 50000"/>
              <a:gd name="adj2" fmla="val 6190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177200">
            <a:off x="6743520" y="2649600"/>
            <a:ext cx="792000" cy="1992240"/>
          </a:xfrm>
          <a:prstGeom prst="downArrow">
            <a:avLst>
              <a:gd name="adj1" fmla="val 50000"/>
              <a:gd name="adj2" fmla="val 6288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17760"/>
            <a:ext cx="6095880" cy="4597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s mécanismes du 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Fondements de la Méthode du Nouvel humanis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8360" y="1300320"/>
            <a:ext cx="1976040" cy="39888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phénomè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29760" y="1300320"/>
            <a:ext cx="1396800" cy="39888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Pen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2133720"/>
            <a:ext cx="0" cy="4114800"/>
          </a:xfrm>
          <a:prstGeom prst="line">
            <a:avLst/>
          </a:prstGeom>
          <a:ln w="3816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743200"/>
            <a:ext cx="1655640" cy="1655640"/>
          </a:xfrm>
          <a:prstGeom prst="cloudCallout">
            <a:avLst>
              <a:gd name="adj1" fmla="val -29384"/>
              <a:gd name="adj2" fmla="val 700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1560" y="4094280"/>
            <a:ext cx="598320" cy="554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094280"/>
            <a:ext cx="611280" cy="5540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0480" y="3807000"/>
            <a:ext cx="0" cy="100800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4114800"/>
            <a:ext cx="57924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114800"/>
            <a:ext cx="6094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590920"/>
            <a:ext cx="1079640" cy="1079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1911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4070600">
            <a:off x="6093360" y="3507480"/>
            <a:ext cx="769680" cy="30816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5181480"/>
            <a:ext cx="2819520" cy="4597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Verdana"/>
              </a:rPr>
              <a:t>Différe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5181480"/>
            <a:ext cx="3249720" cy="4597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Verdana"/>
              </a:rPr>
              <a:t>Complément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1905120"/>
            <a:ext cx="2376360" cy="4597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Verdana"/>
              </a:rPr>
              <a:t>Synthè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17760"/>
            <a:ext cx="6095880" cy="4597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s mécanismes du 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Fondements de la Méthode du Nouvel humanism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685800"/>
            <a:ext cx="40384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Les principes 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447920"/>
            <a:ext cx="791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Verdana"/>
              </a:rPr>
              <a:t>Principe d’Expérience</a:t>
            </a:r>
            <a:r>
              <a:rPr b="1" lang="es-MX" sz="2000" spc="-1" strike="noStrike">
                <a:solidFill>
                  <a:srgbClr val="ff9900"/>
                </a:solidFill>
                <a:latin typeface="Verdana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Il n'y a pas d'être sans manifes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523880"/>
            <a:ext cx="30456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362320"/>
            <a:ext cx="78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Verdana"/>
              </a:rPr>
              <a:t>Principe de Graduation</a:t>
            </a:r>
            <a:r>
              <a:rPr b="1" lang="es-MX" sz="2000" spc="-1" strike="noStrike">
                <a:solidFill>
                  <a:srgbClr val="ff9900"/>
                </a:solidFill>
                <a:latin typeface="Verdana"/>
              </a:rPr>
              <a:t> 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e qui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t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”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et ce qui 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’est pas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”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admettent différents degrés de probabilité et de cer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2438280"/>
            <a:ext cx="304560" cy="855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581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Principe de Non-contradiction</a:t>
            </a:r>
            <a:r>
              <a:rPr b="1" lang="fr-FR" sz="2000" spc="-1" strike="noStrike">
                <a:solidFill>
                  <a:srgbClr val="ff9900"/>
                </a:solidFill>
                <a:latin typeface="Verdana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Il n'est pas possible que quelque chose </a:t>
            </a:r>
            <a:r>
              <a:rPr b="1" lang="es-MX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oit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”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et </a:t>
            </a:r>
            <a:br>
              <a:rPr sz="2000"/>
            </a:br>
            <a:r>
              <a:rPr b="1" lang="es-MX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e soit pas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”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au même moment et dans le même sens.</a:t>
            </a:r>
            <a:r>
              <a:rPr b="1" lang="es-ES" sz="2000" spc="-1" strike="noStrike">
                <a:solidFill>
                  <a:srgbClr val="36227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657600"/>
            <a:ext cx="304560" cy="83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800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Verdana"/>
              </a:rPr>
              <a:t>Principe de Variabilité</a:t>
            </a:r>
            <a:r>
              <a:rPr b="1" lang="fr-FR" sz="2000" spc="-1" strike="noStrike">
                <a:solidFill>
                  <a:srgbClr val="ff9900"/>
                </a:solidFill>
                <a:latin typeface="Verdana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'être </a:t>
            </a:r>
            <a:r>
              <a:rPr b="1" lang="es-MX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st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”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es-MX" sz="2000" spc="-1" strike="noStrike">
                <a:solidFill>
                  <a:srgbClr val="008000"/>
                </a:solidFill>
                <a:latin typeface="Verdana"/>
              </a:rPr>
              <a:t>“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'est pas</a:t>
            </a:r>
            <a:r>
              <a:rPr b="1" lang="es-ES" sz="2000" spc="-1" strike="noStrike">
                <a:solidFill>
                  <a:srgbClr val="008000"/>
                </a:solidFill>
                <a:latin typeface="Verdana"/>
              </a:rPr>
              <a:t>”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identique à lui-même selon qu'on le considère comme moment ou proces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876920"/>
            <a:ext cx="304560" cy="83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Apports du Nouvel hum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18288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Rien n'existe de façon isolée,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tout est en relation dynamique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avec d'autres constituants à l'intérieur d'enceintes qui les condition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828800"/>
            <a:ext cx="323640" cy="243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3360" y="685800"/>
            <a:ext cx="25963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Loi d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Apports du Nouvel hum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1828800"/>
            <a:ext cx="682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Tout processus est déterminé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des relations de simultanéité avec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des processus de la même enceinte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et non par des causes linéaires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du mouvement précédent dont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il procè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85800"/>
            <a:ext cx="3691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Loi de concom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1828800"/>
            <a:ext cx="323640" cy="2895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Apports du Nouvel hum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47920" y="1828800"/>
            <a:ext cx="647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Tout dans l'Univers est en évolution, tout avance du plus simple au plus complexe et est organisé selon des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temps et des rythmes cycliques</a:t>
            </a:r>
            <a:r>
              <a:rPr b="1" i="1" lang="fr-FR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85800"/>
            <a:ext cx="25909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Loi d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828800"/>
            <a:ext cx="323640" cy="2133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Apports du Nouvel hum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9360" y="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Héraclite d’Ephès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544 -482</a:t>
            </a:r>
            <a:br>
              <a:rPr sz="2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grec</a:t>
            </a: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’Etre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est éternellement en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venir et tout se meut sans cesse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400"/>
            </a:br>
            <a:br>
              <a:rPr sz="1000"/>
            </a:b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e qui vit meurt,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e qui est mort devient vivant ;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ien n’est plus ceci ou cela,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mais tout le devient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400"/>
            </a:br>
            <a:br>
              <a:rPr sz="20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Et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en philosophie, exprim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 postule l’existence, la réalité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23880" y="1828800"/>
            <a:ext cx="68580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L'évolution continue de l‘univers présente un rythme de différences,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de combinaisons et de synthèses de plus en plus complexes. De nouvelles synthèses assument les différences précédentes et éliminent la matière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et l'énergie qui ne sont plus qualitativement acceptables 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pour des étapes plus comple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1828800"/>
            <a:ext cx="323640" cy="4191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622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622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5560" y="685800"/>
            <a:ext cx="72673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Loi de dépassement de l’ancien par le nou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8381880" cy="85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"/>
            </a:b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Apports du Nouvel hum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38080"/>
            <a:ext cx="9144000" cy="4812120"/>
          </a:xfrm>
          <a:prstGeom prst="rect">
            <a:avLst/>
          </a:prstGeom>
          <a:solidFill>
            <a:srgbClr val="99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de la </a:t>
            </a:r>
            <a:r>
              <a:rPr b="1" lang="fr-FR" sz="5400" spc="-1" strike="noStrike">
                <a:solidFill>
                  <a:srgbClr val="ff3300"/>
                </a:solidFill>
                <a:latin typeface="Verdana"/>
              </a:rPr>
              <a:t>M</a:t>
            </a: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éthod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5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tructurel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5400" spc="-1" strike="noStrike">
                <a:solidFill>
                  <a:srgbClr val="ff3300"/>
                </a:solidFill>
                <a:latin typeface="Verdana"/>
              </a:rPr>
              <a:t>D</a:t>
            </a: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ynamiqu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838080"/>
            <a:ext cx="9144000" cy="4908960"/>
          </a:xfrm>
          <a:prstGeom prst="rect">
            <a:avLst/>
          </a:prstGeom>
          <a:solidFill>
            <a:srgbClr val="99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Formuler 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une question</a:t>
            </a:r>
            <a:r>
              <a:rPr b="1" lang="fr-FR" sz="6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vec pré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sans ambiguï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EL EST LE PROBLEME ?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’est cela le point de dépa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838080"/>
            <a:ext cx="9144000" cy="5186880"/>
          </a:xfrm>
          <a:prstGeom prst="rect">
            <a:avLst/>
          </a:prstGeom>
          <a:solidFill>
            <a:srgbClr val="99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br>
              <a:rPr sz="16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Définir 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un objet d’étude</a:t>
            </a:r>
            <a:r>
              <a:rPr b="1" lang="fr-FR" sz="6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Qu’est ce qui nous intéresse </a:t>
            </a:r>
            <a:br>
              <a:rPr sz="2800"/>
            </a:b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dans cette étu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838080"/>
            <a:ext cx="9144000" cy="5071680"/>
          </a:xfrm>
          <a:prstGeom prst="rect">
            <a:avLst/>
          </a:prstGeom>
          <a:solidFill>
            <a:srgbClr val="99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Analyser 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l’objet d’étude</a:t>
            </a:r>
            <a:r>
              <a:rPr b="1" lang="fr-FR" sz="6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en statiqu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3657600"/>
            <a:ext cx="4343400" cy="18176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enceinte maj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enceinte moy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enceinte mine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838080"/>
            <a:ext cx="9144000" cy="5266800"/>
          </a:xfrm>
          <a:prstGeom prst="rect">
            <a:avLst/>
          </a:prstGeom>
          <a:solidFill>
            <a:srgbClr val="99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Analyser 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 l’objet d’étude</a:t>
            </a:r>
            <a:r>
              <a:rPr b="1" lang="fr-FR" sz="6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en dynamiqu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657600"/>
            <a:ext cx="5410080" cy="15717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étape de différe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étape de complé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étape de synthè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3657600"/>
            <a:ext cx="3048120" cy="15717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 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a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838080"/>
            <a:ext cx="9144000" cy="5457240"/>
          </a:xfrm>
          <a:prstGeom prst="rect">
            <a:avLst/>
          </a:prstGeom>
          <a:solidFill>
            <a:srgbClr val="99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Élaborer 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une réponse</a:t>
            </a:r>
            <a:r>
              <a:rPr b="1" lang="fr-FR" sz="6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OBJECTIF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sposer de critères pour agir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38080"/>
            <a:ext cx="9144000" cy="5077440"/>
          </a:xfrm>
          <a:prstGeom prst="rect">
            <a:avLst/>
          </a:prstGeom>
          <a:solidFill>
            <a:srgbClr val="99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Réaliser 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Verdana"/>
              </a:rPr>
              <a:t>un rapport final</a:t>
            </a:r>
            <a:r>
              <a:rPr b="1" lang="fr-FR" sz="6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OBJECTIF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rmuler explicitement notre problème, notre analyse et notre réponse,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 vue de sa diffusion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ans un milieu approprié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457200"/>
            <a:ext cx="655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Sources </a:t>
            </a:r>
            <a:r>
              <a:rPr b="0" lang="en-GB" sz="2000" spc="-1" strike="noStrike">
                <a:solidFill>
                  <a:srgbClr val="ff3300"/>
                </a:solidFill>
                <a:latin typeface="Verdana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elier sur la  méthode du CEH de Buenos Aires Images : Wikip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Elaboré par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ylvie Fornasier :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Verdana"/>
              </a:rPr>
              <a:t>sylvie.fornasier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ean-Michel Baroch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Verdana"/>
              </a:rPr>
              <a:t>jeanmichel_b@yahoo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chel Darracq :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Verdana"/>
              </a:rPr>
              <a:t>michel.darracq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hilippe Moal :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Verdana"/>
              </a:rPr>
              <a:t>ph.moal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Site WEB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e d’études humanistes de Pari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Verdana"/>
              </a:rPr>
              <a:t>http://www.cehp.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e mondial d’études humanist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Verdana"/>
              </a:rPr>
              <a:t>http://www.cmehumanistas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Verdana"/>
              </a:rPr>
              <a:t>Octobr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arménide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d'Élé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Παρμενίδης Parmenídês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520 -450</a:t>
            </a:r>
            <a:br>
              <a:rPr sz="2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grec présocratique</a:t>
            </a:r>
            <a:br>
              <a:rPr sz="2000"/>
            </a:br>
            <a:br>
              <a:rPr sz="3200"/>
            </a:b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’Etre est intemporel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 continu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400"/>
            </a:br>
            <a:br>
              <a:rPr sz="1000"/>
            </a:b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ien ne peut devenir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une autre chos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e ce qu’elle est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70480" y="3313080"/>
            <a:ext cx="180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2880" y="-360"/>
            <a:ext cx="4191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Socrate 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Σωκράτης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469 -399</a:t>
            </a:r>
            <a:br>
              <a:rPr sz="2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grec - Athènes</a:t>
            </a:r>
            <a:br>
              <a:rPr sz="2000"/>
            </a:b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Maieutique...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u l’art de faire accoucher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es esprits.</a:t>
            </a:r>
            <a:br>
              <a:rPr sz="2400"/>
            </a:br>
            <a:r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s questions, des questions,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ncore des questions...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 ironie... ou l'art de pousse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'autre dans ses retranchements (intellectuels), comme style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66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epère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hronolog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676520"/>
            <a:ext cx="8686800" cy="38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114800"/>
            <a:ext cx="85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-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           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             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.0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    1.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2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133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éracli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-450 / -4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rménid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–520 / -4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124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cra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–469 / –3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t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–427 / –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risto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–384 / –3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2819520"/>
            <a:ext cx="1295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int August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354 / 4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286000"/>
            <a:ext cx="24382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oma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’Aq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1225 / 12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cart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1596 / 16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886200"/>
            <a:ext cx="838080" cy="1522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666880"/>
            <a:ext cx="533160" cy="15264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352680"/>
            <a:ext cx="609480" cy="15264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3886200"/>
            <a:ext cx="838080" cy="15228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743200"/>
            <a:ext cx="609840" cy="152280"/>
          </a:xfrm>
          <a:prstGeom prst="flowChartTerminator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200400"/>
            <a:ext cx="609480" cy="1522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2438280"/>
            <a:ext cx="205740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Ka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1724 / 18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g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770 / 18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8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usser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1859 / 19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eg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883 / 19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19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038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9528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49528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4952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MOYEN-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4952880"/>
            <a:ext cx="114300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952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NTIQ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495288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PO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MODE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495288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PHI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NTEMPO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49528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2895480"/>
            <a:ext cx="609480" cy="152640"/>
          </a:xfrm>
          <a:prstGeom prst="flowChartTerminator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91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Plato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Πλάτων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427 -348</a:t>
            </a:r>
            <a:br>
              <a:rPr sz="2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grec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dialiectique...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u la critique constructive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s propositions,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s arguments,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our approcher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ogressivement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 l’Idée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94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91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Aristote 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msgothic"/>
              </a:rPr>
              <a:t>a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ριστοτέλης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-384 -322</a:t>
            </a:r>
            <a:br>
              <a:rPr sz="2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grec de l’Antiquité</a:t>
            </a:r>
            <a:br>
              <a:rPr sz="2000"/>
            </a:br>
            <a:br>
              <a:rPr sz="28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Logique* = la dialectiqu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+ le mouvement de la raison</a:t>
            </a:r>
            <a:br>
              <a:rPr sz="2400"/>
            </a:br>
            <a:br>
              <a:rPr sz="1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ois du raisonnement correct :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éduction, démonstration, résultat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Logique : science dont l’obje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 de déteminer les règles de la pensée grâce auxquelles on peut atteindre la vér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97" name=""/>
          <p:cNvSpPr/>
          <p:nvPr/>
        </p:nvSpPr>
        <p:spPr>
          <a:xfrm>
            <a:off x="3276720" y="5486400"/>
            <a:ext cx="3047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Augustin d’Hippone. </a:t>
            </a:r>
            <a:br>
              <a:rPr sz="5400"/>
            </a:br>
            <a:r>
              <a:rPr b="1" i="1" lang="en-GB" sz="5400" spc="-1" strike="noStrike">
                <a:solidFill>
                  <a:srgbClr val="000000"/>
                </a:solidFill>
                <a:latin typeface="Times New Roman"/>
              </a:rPr>
              <a:t>St Augusti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54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430</a:t>
            </a:r>
            <a:br>
              <a:rPr sz="28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Philosophe  chrétien - Carth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br>
              <a:rPr sz="2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ieu détient la Connaissance ultime on y parvient, non par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logique, par la révélation.</a:t>
            </a:r>
            <a:br>
              <a:rPr sz="2400"/>
            </a:br>
            <a:r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cité de Dieu, seule, est parfaite ; c’est là que se trouvent la connaissanc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t la vér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9360">
            <a:solidFill>
              <a:srgbClr val="ff3300"/>
            </a:solidFill>
            <a:round/>
          </a:ln>
        </p:spPr>
      </p:pic>
      <p:sp>
        <p:nvSpPr>
          <p:cNvPr id="101" name=""/>
          <p:cNvSpPr/>
          <p:nvPr/>
        </p:nvSpPr>
        <p:spPr>
          <a:xfrm>
            <a:off x="8534520" y="15228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11-07T18:01:23Z</dcterms:modified>
  <cp:revision>85</cp:revision>
  <dc:subject/>
  <dc:title>Présentation PowerPoint</dc:title>
</cp:coreProperties>
</file>