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6200000">
            <a:off x="-2434320" y="2434320"/>
            <a:ext cx="5516640" cy="6476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fefefe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44280" y="5194440"/>
            <a:ext cx="567000" cy="161928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 rot="16200000">
            <a:off x="-2155680" y="2459880"/>
            <a:ext cx="49690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4d4d4d"/>
                </a:solidFill>
                <a:latin typeface="Trebuchet MS"/>
              </a:rPr>
              <a:t>METODO STRUTTURALE DINAMICO – Terzo gior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" descr=""/>
          <p:cNvPicPr/>
          <p:nvPr/>
        </p:nvPicPr>
        <p:blipFill>
          <a:blip r:embed="rId1"/>
          <a:stretch/>
        </p:blipFill>
        <p:spPr>
          <a:xfrm>
            <a:off x="179280" y="360360"/>
            <a:ext cx="4376880" cy="6093000"/>
          </a:xfrm>
          <a:prstGeom prst="rect">
            <a:avLst/>
          </a:prstGeom>
          <a:ln w="0">
            <a:noFill/>
          </a:ln>
        </p:spPr>
      </p:pic>
      <p:sp>
        <p:nvSpPr>
          <p:cNvPr id="40" name=""/>
          <p:cNvSpPr txBox="1"/>
          <p:nvPr/>
        </p:nvSpPr>
        <p:spPr>
          <a:xfrm>
            <a:off x="4859280" y="1546200"/>
            <a:ext cx="3857760" cy="231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0">
                  <a:noFill/>
                </a:ln>
                <a:solidFill>
                  <a:srgbClr val="362276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Trebuchet MS"/>
              </a:rPr>
              <a:t>METODO</a:t>
            </a:r>
            <a:endParaRPr b="1" lang="en-US" sz="4800" spc="1" strike="noStrike">
              <a:ln w="0">
                <a:noFill/>
              </a:ln>
              <a:solidFill>
                <a:srgbClr val="362276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Trebuchet MS"/>
              <a:ea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0">
                  <a:noFill/>
                </a:ln>
                <a:solidFill>
                  <a:srgbClr val="362276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Trebuchet MS"/>
              </a:rPr>
              <a:t>STRUTTURALE</a:t>
            </a:r>
            <a:endParaRPr b="1" lang="en-US" sz="4800" spc="1" strike="noStrike">
              <a:ln w="0">
                <a:noFill/>
              </a:ln>
              <a:solidFill>
                <a:srgbClr val="362276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Trebuchet MS"/>
              <a:ea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0">
                  <a:noFill/>
                </a:ln>
                <a:solidFill>
                  <a:srgbClr val="362276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Trebuchet MS"/>
              </a:rPr>
              <a:t>DINAMICO</a:t>
            </a:r>
            <a:endParaRPr b="1" lang="en-US" sz="4800" spc="1" strike="noStrike">
              <a:ln w="0">
                <a:noFill/>
              </a:ln>
              <a:solidFill>
                <a:srgbClr val="362276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Trebuchet MS"/>
              <a:ea typeface="Trebuchet MS"/>
            </a:endParaRPr>
          </a:p>
        </p:txBody>
      </p:sp>
      <p:sp>
        <p:nvSpPr>
          <p:cNvPr id="41" name=""/>
          <p:cNvSpPr/>
          <p:nvPr/>
        </p:nvSpPr>
        <p:spPr>
          <a:xfrm>
            <a:off x="5884920" y="4797360"/>
            <a:ext cx="214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4d4d4d"/>
                </a:solidFill>
                <a:latin typeface="Trebuchet MS"/>
              </a:rPr>
              <a:t>Terzo Giorn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196240" y="4437000"/>
            <a:ext cx="336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4d4d4d"/>
                </a:solidFill>
                <a:latin typeface="Trebuchet MS"/>
              </a:rPr>
              <a:t>SEMINARIO PRAT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5709600" y="222120"/>
            <a:ext cx="3385800" cy="4597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62276"/>
                </a:solidFill>
                <a:latin typeface="Trebuchet MS"/>
              </a:rPr>
              <a:t>ALTRE APPLICAZIO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26920" y="1557360"/>
            <a:ext cx="7705800" cy="43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3880" indent="-353880">
              <a:lnSpc>
                <a:spcPct val="100000"/>
              </a:lnSpc>
              <a:spcBef>
                <a:spcPts val="1375"/>
              </a:spcBef>
              <a:buClr>
                <a:srgbClr val="ff99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Trebuchet MS"/>
              </a:rPr>
              <a:t>Comunicare ad altri la nuova visione</a:t>
            </a:r>
            <a:r>
              <a:rPr b="0" lang="es-ES" sz="2200" spc="-1" strike="noStrike">
                <a:solidFill>
                  <a:srgbClr val="000000"/>
                </a:solidFill>
                <a:latin typeface="Trebuchet MS"/>
              </a:rPr>
              <a:t> che abbiamo raggiunto della situazione studiata, attraverso la produzione di scritti tecnici o narrativi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Trebuchet MS"/>
              </a:rPr>
              <a:t>Non è necessario dettagliare i passi realizzati, perché sono stati solamente l’impalcatura della costruzione. Sarà interessante trasmettere la nostra comprensione del tem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>
              <a:lnSpc>
                <a:spcPct val="100000"/>
              </a:lnSpc>
              <a:spcBef>
                <a:spcPts val="1375"/>
              </a:spcBef>
              <a:buClr>
                <a:srgbClr val="ff99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Trebuchet MS"/>
              </a:rPr>
              <a:t>Applicare le nostre scoperte all’azione</a:t>
            </a:r>
            <a:r>
              <a:rPr b="0" lang="es-ES" sz="2200" spc="-1" strike="noStrike">
                <a:solidFill>
                  <a:srgbClr val="000000"/>
                </a:solidFill>
                <a:latin typeface="Trebuchet MS"/>
              </a:rPr>
              <a:t>. Affermammo che il Metodo era uno strumento di trasformazione personale e sociale. Può aiutarci a prendere decisioni nella soluzione di problemi immediati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6630480" y="222120"/>
            <a:ext cx="2421000" cy="4597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62276"/>
                </a:solidFill>
                <a:latin typeface="Trebuchet MS"/>
              </a:rPr>
              <a:t>CONSEGUEN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26920" y="1527120"/>
            <a:ext cx="7921800" cy="369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3880" indent="-353880">
              <a:lnSpc>
                <a:spcPct val="100000"/>
              </a:lnSpc>
              <a:spcBef>
                <a:spcPts val="1375"/>
              </a:spcBef>
              <a:buClr>
                <a:srgbClr val="ff99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Trebuchet MS"/>
              </a:rPr>
              <a:t>Osservare nel tempo se questo modo di affrontare i problemi ci è di qualche utilità.</a:t>
            </a:r>
            <a:r>
              <a:rPr b="0" lang="es-ES" sz="22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Trebuchet MS"/>
              </a:rPr>
              <a:t>Se vediamo conseguenze interessanti dell’utilizzo del Metodo, allora sarà bene esercitarsi e farlo arrivare ad altri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>
              <a:lnSpc>
                <a:spcPct val="100000"/>
              </a:lnSpc>
              <a:spcBef>
                <a:spcPts val="1375"/>
              </a:spcBef>
              <a:buClr>
                <a:srgbClr val="ff99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Trebuchet MS"/>
              </a:rPr>
              <a:t>Questo lavoro serve per lo studio e la riflessione ordinata.</a:t>
            </a:r>
            <a:r>
              <a:rPr b="0" lang="es-ES" sz="22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Trebuchet MS"/>
              </a:rPr>
              <a:t>Quando saremo di fronte ad un problema che richieda chiarezza di pensiero, il Metodo Strutturale Dinamico sicuramente ci sarà di grande aiut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006560" y="6237360"/>
            <a:ext cx="7886520" cy="4597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rebuchet MS"/>
              </a:rPr>
              <a:t>FINE DEL SEMINARIO PRAT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58920" y="2205000"/>
            <a:ext cx="7777080" cy="39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5000"/>
              </a:lnSpc>
              <a:buClr>
                <a:srgbClr val="ff99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1" lang="es-MX" sz="2400" spc="-1" strike="noStrike">
                <a:solidFill>
                  <a:srgbClr val="000066"/>
                </a:solidFill>
                <a:latin typeface="Trebuchet MS"/>
              </a:rPr>
              <a:t>Descrizione</a:t>
            </a:r>
            <a:r>
              <a:rPr b="1" lang="es-MX" sz="2000" spc="-1" strike="noStrike">
                <a:solidFill>
                  <a:srgbClr val="000066"/>
                </a:solidFill>
                <a:latin typeface="Trebuchet MS"/>
              </a:rPr>
              <a:t>.</a:t>
            </a:r>
            <a:r>
              <a:rPr b="1" lang="es-MX" sz="2000" spc="-1" strike="noStrike">
                <a:solidFill>
                  <a:srgbClr val="000000"/>
                </a:solidFill>
                <a:latin typeface="Trebuchet MS"/>
              </a:rPr>
              <a:t> Ricapitolazione del lavoro realizza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buClr>
                <a:srgbClr val="ff99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buClr>
                <a:srgbClr val="ff99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1" lang="es-MX" sz="2400" spc="-1" strike="noStrike">
                <a:solidFill>
                  <a:srgbClr val="000066"/>
                </a:solidFill>
                <a:latin typeface="Trebuchet MS"/>
              </a:rPr>
              <a:t>Riassunto</a:t>
            </a:r>
            <a:r>
              <a:rPr b="1" lang="es-MX" sz="2000" spc="-1" strike="noStrike">
                <a:solidFill>
                  <a:srgbClr val="000066"/>
                </a:solidFill>
                <a:latin typeface="Trebuchet MS"/>
              </a:rPr>
              <a:t>. </a:t>
            </a:r>
            <a:r>
              <a:rPr b="1" lang="es-MX" sz="2000" spc="-1" strike="noStrike">
                <a:solidFill>
                  <a:srgbClr val="000000"/>
                </a:solidFill>
                <a:latin typeface="Trebuchet MS"/>
              </a:rPr>
              <a:t>Rimarcare gli elementi primari della descrizi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buClr>
                <a:srgbClr val="ff99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1" lang="es-MX" sz="2400" spc="-1" strike="noStrike">
                <a:solidFill>
                  <a:srgbClr val="000066"/>
                </a:solidFill>
                <a:latin typeface="Trebuchet MS"/>
              </a:rPr>
              <a:t>Sintesi.</a:t>
            </a:r>
            <a:r>
              <a:rPr b="1" lang="es-MX" sz="20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1" lang="es-MX" sz="2000" spc="-1" strike="noStrike">
                <a:solidFill>
                  <a:srgbClr val="000000"/>
                </a:solidFill>
                <a:latin typeface="Trebuchet MS"/>
              </a:rPr>
              <a:t>Composizione di un nuovo tutto struttura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buClr>
                <a:srgbClr val="ff99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1" lang="es-MX" sz="2400" spc="-1" strike="noStrike">
                <a:solidFill>
                  <a:srgbClr val="000066"/>
                </a:solidFill>
                <a:latin typeface="Trebuchet MS"/>
              </a:rPr>
              <a:t>Conclusio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40800" y="404640"/>
            <a:ext cx="2251800" cy="4597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66"/>
                </a:solidFill>
                <a:latin typeface="Trebuchet MS"/>
              </a:rPr>
              <a:t>5. La Rispos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826920" y="189000"/>
          <a:ext cx="1081080" cy="914400"/>
        </p:xfrm>
        <a:graphic>
          <a:graphicData uri="http://schemas.openxmlformats.org/drawingml/2006/table">
            <a:tbl>
              <a:tblPr/>
              <a:tblGrid>
                <a:gridCol w="1081080"/>
              </a:tblGrid>
              <a:tr h="2311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MAND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9900"/>
                      </a:solidFill>
                    </a:lnL>
                    <a:lnR w="13680">
                      <a:solidFill>
                        <a:srgbClr val="ff9900"/>
                      </a:solidFill>
                    </a:lnR>
                    <a:lnT w="13680">
                      <a:solidFill>
                        <a:srgbClr val="ff9900"/>
                      </a:solidFill>
                    </a:lnT>
                    <a:lnB w="13680">
                      <a:solidFill>
                        <a:srgbClr val="ff99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ALIS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9900"/>
                      </a:solidFill>
                    </a:lnL>
                    <a:lnR w="13680">
                      <a:solidFill>
                        <a:srgbClr val="ff9900"/>
                      </a:solidFill>
                    </a:lnR>
                    <a:lnT w="13680">
                      <a:solidFill>
                        <a:srgbClr val="ff9900"/>
                      </a:solidFill>
                    </a:lnT>
                    <a:lnB w="13680">
                      <a:solidFill>
                        <a:srgbClr val="ff99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SPOST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9900"/>
                      </a:solidFill>
                    </a:lnL>
                    <a:lnR w="13680">
                      <a:solidFill>
                        <a:srgbClr val="ff9900"/>
                      </a:solidFill>
                    </a:lnR>
                    <a:lnT w="13680">
                      <a:solidFill>
                        <a:srgbClr val="ff9900"/>
                      </a:solidFill>
                    </a:lnT>
                    <a:lnB w="13680">
                      <a:solidFill>
                        <a:srgbClr val="b2b2b2"/>
                      </a:solidFill>
                    </a:lnB>
                    <a:solidFill>
                      <a:srgbClr val="ff9900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PLICAZIO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9900"/>
                      </a:solidFill>
                    </a:lnL>
                    <a:lnR w="13680">
                      <a:solidFill>
                        <a:srgbClr val="ff9900"/>
                      </a:solidFill>
                    </a:lnR>
                    <a:lnT w="13680">
                      <a:solidFill>
                        <a:srgbClr val="b2b2b2"/>
                      </a:solidFill>
                    </a:lnT>
                    <a:lnB w="13680">
                      <a:solidFill>
                        <a:srgbClr val="ff99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6294600" y="260280"/>
            <a:ext cx="219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62276"/>
                </a:solidFill>
                <a:latin typeface="Trebuchet MS"/>
              </a:rPr>
              <a:t>La Rispos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340000" y="1052640"/>
            <a:ext cx="590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Riassumiamo il lavoro realizzato finor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042920" y="5194440"/>
            <a:ext cx="7704360" cy="119124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rebuchet MS"/>
              </a:rPr>
              <a:t>Siamo ora in condizione di continuare il nostro studio, realizzando una descrizione dettagliata del nostro operato per ciascun grupp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258920" y="1484280"/>
            <a:ext cx="7416720" cy="354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35000"/>
              </a:lnSpc>
              <a:buClr>
                <a:srgbClr val="ff99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Ci poniamo un proble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35000"/>
              </a:lnSpc>
              <a:buClr>
                <a:srgbClr val="ff99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Formuliamo una doman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35000"/>
              </a:lnSpc>
              <a:buClr>
                <a:srgbClr val="ff99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Definiamo un Oggetto di Stud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35000"/>
              </a:lnSpc>
              <a:buClr>
                <a:srgbClr val="ff99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Inquadriamo lo spazio in cui collochiamo il nostro Ogget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35000"/>
              </a:lnSpc>
              <a:buClr>
                <a:srgbClr val="ff99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Analizziamo il suo Processo, le sue Relazioni e la sua Composiz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826920" y="189000"/>
          <a:ext cx="1081080" cy="914400"/>
        </p:xfrm>
        <a:graphic>
          <a:graphicData uri="http://schemas.openxmlformats.org/drawingml/2006/table">
            <a:tbl>
              <a:tblPr/>
              <a:tblGrid>
                <a:gridCol w="1081080"/>
              </a:tblGrid>
              <a:tr h="2311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MAND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9900"/>
                      </a:solidFill>
                    </a:lnL>
                    <a:lnR w="13680">
                      <a:solidFill>
                        <a:srgbClr val="ff9900"/>
                      </a:solidFill>
                    </a:lnR>
                    <a:lnT w="13680">
                      <a:solidFill>
                        <a:srgbClr val="ff9900"/>
                      </a:solidFill>
                    </a:lnT>
                    <a:lnB w="13680">
                      <a:solidFill>
                        <a:srgbClr val="ff99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ALIS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9900"/>
                      </a:solidFill>
                    </a:lnL>
                    <a:lnR w="13680">
                      <a:solidFill>
                        <a:srgbClr val="ff9900"/>
                      </a:solidFill>
                    </a:lnR>
                    <a:lnT w="13680">
                      <a:solidFill>
                        <a:srgbClr val="ff9900"/>
                      </a:solidFill>
                    </a:lnT>
                    <a:lnB w="13680">
                      <a:solidFill>
                        <a:srgbClr val="ff99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SPOST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9900"/>
                      </a:solidFill>
                    </a:lnL>
                    <a:lnR w="13680">
                      <a:solidFill>
                        <a:srgbClr val="ff9900"/>
                      </a:solidFill>
                    </a:lnR>
                    <a:lnT w="13680">
                      <a:solidFill>
                        <a:srgbClr val="ff9900"/>
                      </a:solidFill>
                    </a:lnT>
                    <a:lnB w="13680">
                      <a:solidFill>
                        <a:srgbClr val="b2b2b2"/>
                      </a:solidFill>
                    </a:lnB>
                    <a:solidFill>
                      <a:srgbClr val="ff9900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PLICAZIO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9900"/>
                      </a:solidFill>
                    </a:lnL>
                    <a:lnR w="13680">
                      <a:solidFill>
                        <a:srgbClr val="ff9900"/>
                      </a:solidFill>
                    </a:lnR>
                    <a:lnT w="13680">
                      <a:solidFill>
                        <a:srgbClr val="b2b2b2"/>
                      </a:solidFill>
                    </a:lnT>
                    <a:lnB w="13680">
                      <a:solidFill>
                        <a:srgbClr val="ff99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cover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6852240" y="222120"/>
            <a:ext cx="2215440" cy="4597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62276"/>
                </a:solidFill>
                <a:latin typeface="Trebuchet MS"/>
              </a:rPr>
              <a:t>DESCRIZ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330200" y="836640"/>
            <a:ext cx="7202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62276"/>
                </a:solidFill>
                <a:latin typeface="Trebuchet MS"/>
              </a:rPr>
              <a:t>E’ una esposizione ordinata di tutti i passi dati e degli aspetti analizzati durante lo stud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38560" y="1844640"/>
            <a:ext cx="648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7200" indent="-187200" algn="r">
              <a:lnSpc>
                <a:spcPct val="10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0000"/>
                </a:solidFill>
                <a:latin typeface="Trebuchet MS"/>
              </a:rPr>
              <a:t>Cominciamo con il problema, la domanda, la definizione dell’Oggetto di Studio e le analisi in statica e dinamic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116000" y="2863800"/>
            <a:ext cx="755964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3880" indent="-353880">
              <a:lnSpc>
                <a:spcPct val="100000"/>
              </a:lnSpc>
              <a:spcBef>
                <a:spcPts val="1500"/>
              </a:spcBef>
              <a:buClr>
                <a:srgbClr val="ff99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rebuchet MS"/>
              </a:rPr>
              <a:t>Immaginare di esporre il lavoro per qualcuno che non vi abbia partecipa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>
              <a:lnSpc>
                <a:spcPct val="100000"/>
              </a:lnSpc>
              <a:spcBef>
                <a:spcPts val="1500"/>
              </a:spcBef>
              <a:buClr>
                <a:srgbClr val="ff99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rebuchet MS"/>
              </a:rPr>
              <a:t>Cerchiamo un’espressione chiara, comprensibile per il nostro ascoltato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>
              <a:lnSpc>
                <a:spcPct val="100000"/>
              </a:lnSpc>
              <a:spcBef>
                <a:spcPts val="1500"/>
              </a:spcBef>
              <a:buClr>
                <a:srgbClr val="ff99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rebuchet MS"/>
              </a:rPr>
              <a:t>Recuperiamo così tutto il lavoro realizzato, e lo rendiamo presente, per avanzare verso la redazione del riassun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971640" y="981000"/>
            <a:ext cx="287280" cy="792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7108560" y="222120"/>
            <a:ext cx="1944000" cy="4597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62276"/>
                </a:solidFill>
                <a:latin typeface="Trebuchet MS"/>
              </a:rPr>
              <a:t>RIASSU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330200" y="836640"/>
            <a:ext cx="7489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62276"/>
                </a:solidFill>
                <a:latin typeface="Trebuchet MS"/>
              </a:rPr>
              <a:t>Rimarca gli elementi primari della descrizione, rispettando la sua sequenza e il suo sens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338560" y="1844640"/>
            <a:ext cx="648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7200" indent="-187200" algn="r">
              <a:lnSpc>
                <a:spcPct val="10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0000"/>
                </a:solidFill>
                <a:latin typeface="Trebuchet MS"/>
              </a:rPr>
              <a:t>Includiamo solamente gli elementi principali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33440" y="2637000"/>
            <a:ext cx="7559640" cy="35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3880" indent="-353880">
              <a:lnSpc>
                <a:spcPct val="100000"/>
              </a:lnSpc>
              <a:spcBef>
                <a:spcPts val="1500"/>
              </a:spcBef>
              <a:buClr>
                <a:srgbClr val="ff99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rebuchet MS"/>
              </a:rPr>
              <a:t>Prendiamo gli elementi più significativi della descrizione, scartando i dettagl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>
              <a:lnSpc>
                <a:spcPct val="100000"/>
              </a:lnSpc>
              <a:spcBef>
                <a:spcPts val="1500"/>
              </a:spcBef>
              <a:buClr>
                <a:srgbClr val="ff99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rebuchet MS"/>
              </a:rPr>
              <a:t>Li mettiamo in relazione, facendo attenzione alla complementazione tra le diverse part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>
              <a:lnSpc>
                <a:spcPct val="100000"/>
              </a:lnSpc>
              <a:spcBef>
                <a:spcPts val="1500"/>
              </a:spcBef>
              <a:buClr>
                <a:srgbClr val="ff99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rebuchet MS"/>
              </a:rPr>
              <a:t>Lo percorriamo dall’inizio alla fine e viceversa, per verificarne la coerenz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>
              <a:lnSpc>
                <a:spcPct val="100000"/>
              </a:lnSpc>
              <a:spcBef>
                <a:spcPts val="1500"/>
              </a:spcBef>
              <a:buClr>
                <a:srgbClr val="ff99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rebuchet MS"/>
              </a:rPr>
              <a:t>Siamo così in condizione di tracciare una sintesi fina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971640" y="981000"/>
            <a:ext cx="287280" cy="792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677000" y="222120"/>
            <a:ext cx="1349640" cy="4597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62276"/>
                </a:solidFill>
                <a:latin typeface="Trebuchet MS"/>
              </a:rPr>
              <a:t>SINTE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330200" y="836640"/>
            <a:ext cx="7129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62276"/>
                </a:solidFill>
                <a:latin typeface="Trebuchet MS"/>
              </a:rPr>
              <a:t>E’ la composizione di un tutto attraverso la riunione delle sue parti e ha l’ambizione di comprendere la totalità dell’Oggetto di Stud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338560" y="2013120"/>
            <a:ext cx="648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7200" indent="-187200" algn="r">
              <a:lnSpc>
                <a:spcPct val="10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0000"/>
                </a:solidFill>
                <a:latin typeface="Trebuchet MS"/>
              </a:rPr>
              <a:t>Può essere un breve scritto, una frase, una parola o un grafic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052720" y="2637000"/>
            <a:ext cx="7056360" cy="35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3880" indent="-353880">
              <a:lnSpc>
                <a:spcPct val="100000"/>
              </a:lnSpc>
              <a:spcBef>
                <a:spcPts val="1500"/>
              </a:spcBef>
              <a:buClr>
                <a:srgbClr val="ff99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rebuchet MS"/>
              </a:rPr>
              <a:t>E’ una riformulazione dell’Oggetto di Stud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>
              <a:lnSpc>
                <a:spcPct val="100000"/>
              </a:lnSpc>
              <a:spcBef>
                <a:spcPts val="1500"/>
              </a:spcBef>
              <a:buClr>
                <a:srgbClr val="ff99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rebuchet MS"/>
              </a:rPr>
              <a:t>Permette di scoprire aspetti prima non contempla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>
              <a:lnSpc>
                <a:spcPct val="100000"/>
              </a:lnSpc>
              <a:spcBef>
                <a:spcPts val="1500"/>
              </a:spcBef>
              <a:buClr>
                <a:srgbClr val="ff99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rebuchet MS"/>
              </a:rPr>
              <a:t>Vuole essere una nuova visione dell’Oggetto, colto con chiarezza e registro di eviden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>
              <a:lnSpc>
                <a:spcPct val="100000"/>
              </a:lnSpc>
              <a:spcBef>
                <a:spcPts val="1500"/>
              </a:spcBef>
              <a:buClr>
                <a:srgbClr val="ff99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rebuchet MS"/>
              </a:rPr>
              <a:t>Fa sperimentare una nuova definizione dell’Oggetto, che concerne una nuova comprensione totalizzante dello stess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971640" y="981000"/>
            <a:ext cx="287280" cy="792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6671520" y="222120"/>
            <a:ext cx="2408760" cy="4597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62276"/>
                </a:solidFill>
                <a:latin typeface="Trebuchet MS"/>
              </a:rPr>
              <a:t>CONCLUS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330200" y="836640"/>
            <a:ext cx="7274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62276"/>
                </a:solidFill>
                <a:latin typeface="Trebuchet MS"/>
              </a:rPr>
              <a:t>Sarà la Risposta alla Domanda con cui cominciammo lo Stud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116000" y="2637000"/>
            <a:ext cx="7559640" cy="37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3880" indent="-353880">
              <a:lnSpc>
                <a:spcPct val="100000"/>
              </a:lnSpc>
              <a:spcBef>
                <a:spcPts val="1500"/>
              </a:spcBef>
              <a:buClr>
                <a:srgbClr val="ff99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rebuchet MS"/>
              </a:rPr>
              <a:t>La Risposta sarà la conclusione dello studio realizzato e il suo fondamento sarà dato dalla nuova visione totalizzante che abbiamo ottenu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>
              <a:lnSpc>
                <a:spcPct val="100000"/>
              </a:lnSpc>
              <a:spcBef>
                <a:spcPts val="1500"/>
              </a:spcBef>
              <a:buClr>
                <a:srgbClr val="ff99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rebuchet MS"/>
              </a:rPr>
              <a:t>Implicherà un salto dalla nuova visione dell’Oggetto alla Domanda originaria, e deve verificarsi una forte coerenza tra i d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>
              <a:lnSpc>
                <a:spcPct val="100000"/>
              </a:lnSpc>
              <a:spcBef>
                <a:spcPts val="1500"/>
              </a:spcBef>
              <a:buClr>
                <a:srgbClr val="ff99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rebuchet MS"/>
              </a:rPr>
              <a:t>La Risposta deve essere chiara e precisa, affinché sia di vantaggio per noi e per gli altr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971640" y="981000"/>
            <a:ext cx="287280" cy="792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5435640" y="404640"/>
            <a:ext cx="2608200" cy="4597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66"/>
                </a:solidFill>
                <a:latin typeface="Trebuchet MS"/>
              </a:rPr>
              <a:t>6. Applicazio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187280" y="2565360"/>
            <a:ext cx="7201080" cy="34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23960" indent="-723960">
              <a:lnSpc>
                <a:spcPct val="145000"/>
              </a:lnSpc>
              <a:buClr>
                <a:srgbClr val="ff99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66"/>
                </a:solidFill>
                <a:latin typeface="Trebuchet MS"/>
              </a:rPr>
              <a:t>Rapporto finale. </a:t>
            </a:r>
            <a:r>
              <a:rPr b="1" lang="es-MX" sz="2000" spc="-1" strike="noStrike">
                <a:solidFill>
                  <a:srgbClr val="000000"/>
                </a:solidFill>
                <a:latin typeface="Trebuchet MS"/>
              </a:rPr>
              <a:t>Realizzato per la presentazi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23960" indent="-723960">
              <a:lnSpc>
                <a:spcPct val="145000"/>
              </a:lnSpc>
              <a:buClr>
                <a:srgbClr val="ff99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23960" indent="-723960">
              <a:lnSpc>
                <a:spcPct val="145000"/>
              </a:lnSpc>
              <a:buClr>
                <a:srgbClr val="ff99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66"/>
                </a:solidFill>
                <a:latin typeface="Trebuchet MS"/>
              </a:rPr>
              <a:t>Altre applicazioni. </a:t>
            </a:r>
            <a:r>
              <a:rPr b="1" lang="es-MX" sz="2000" spc="-1" strike="noStrike">
                <a:solidFill>
                  <a:srgbClr val="000000"/>
                </a:solidFill>
                <a:latin typeface="Trebuchet MS"/>
              </a:rPr>
              <a:t>La comunicazione e l’azi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23960" indent="-723960">
              <a:lnSpc>
                <a:spcPct val="145000"/>
              </a:lnSpc>
              <a:buClr>
                <a:srgbClr val="ff99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23960" indent="-723960">
              <a:lnSpc>
                <a:spcPct val="145000"/>
              </a:lnSpc>
              <a:buClr>
                <a:srgbClr val="ff99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66"/>
                </a:solidFill>
                <a:latin typeface="Trebuchet MS"/>
              </a:rPr>
              <a:t>Conseguen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826920" y="115920"/>
          <a:ext cx="1081080" cy="914400"/>
        </p:xfrm>
        <a:graphic>
          <a:graphicData uri="http://schemas.openxmlformats.org/drawingml/2006/table">
            <a:tbl>
              <a:tblPr/>
              <a:tblGrid>
                <a:gridCol w="1081080"/>
              </a:tblGrid>
              <a:tr h="2311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MAND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9900"/>
                      </a:solidFill>
                    </a:lnL>
                    <a:lnR w="13680">
                      <a:solidFill>
                        <a:srgbClr val="ff9900"/>
                      </a:solidFill>
                    </a:lnR>
                    <a:lnT w="13680">
                      <a:solidFill>
                        <a:srgbClr val="ff9900"/>
                      </a:solidFill>
                    </a:lnT>
                    <a:lnB w="13680">
                      <a:solidFill>
                        <a:srgbClr val="ff99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ALIS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9900"/>
                      </a:solidFill>
                    </a:lnL>
                    <a:lnR w="13680">
                      <a:solidFill>
                        <a:srgbClr val="ff9900"/>
                      </a:solidFill>
                    </a:lnR>
                    <a:lnT w="13680">
                      <a:solidFill>
                        <a:srgbClr val="ff9900"/>
                      </a:solidFill>
                    </a:lnT>
                    <a:lnB w="13680">
                      <a:solidFill>
                        <a:srgbClr val="ff99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SPOST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9900"/>
                      </a:solidFill>
                    </a:lnL>
                    <a:lnR w="13680">
                      <a:solidFill>
                        <a:srgbClr val="ff9900"/>
                      </a:solidFill>
                    </a:lnR>
                    <a:lnT w="13680">
                      <a:solidFill>
                        <a:srgbClr val="ff9900"/>
                      </a:solidFill>
                    </a:lnT>
                    <a:lnB w="13680">
                      <a:solidFill>
                        <a:srgbClr val="b2b2b2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PLICAZIO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9900"/>
                      </a:solidFill>
                    </a:lnL>
                    <a:lnR w="13680">
                      <a:solidFill>
                        <a:srgbClr val="ff9900"/>
                      </a:solidFill>
                    </a:lnR>
                    <a:lnT w="13680">
                      <a:solidFill>
                        <a:srgbClr val="b2b2b2"/>
                      </a:solidFill>
                    </a:lnT>
                    <a:lnB w="13680">
                      <a:solidFill>
                        <a:srgbClr val="ff9900"/>
                      </a:solidFill>
                    </a:lnB>
                    <a:solidFill>
                      <a:srgbClr val="ff9900"/>
                    </a:solidFill>
                  </a:tcPr>
                </a:tc>
              </a:tr>
            </a:tbl>
          </a:graphicData>
        </a:graphic>
      </p:graphicFrame>
    </p:spTree>
  </p:cSld>
  <p:transition>
    <p:cover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5982840" y="189000"/>
            <a:ext cx="3006360" cy="4597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62276"/>
                </a:solidFill>
                <a:latin typeface="Trebuchet MS"/>
              </a:rPr>
              <a:t>RAPPORTO FIN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474920" y="1015920"/>
            <a:ext cx="7705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rebuchet MS"/>
              </a:rPr>
              <a:t>Suggeriamo uno schema semplice, che ricapitola tutto l’operat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11280" y="1644480"/>
          <a:ext cx="8640720" cy="5024520"/>
        </p:xfrm>
        <a:graphic>
          <a:graphicData uri="http://schemas.openxmlformats.org/drawingml/2006/table">
            <a:tbl>
              <a:tblPr/>
              <a:tblGrid>
                <a:gridCol w="1741320"/>
                <a:gridCol w="6899400"/>
              </a:tblGrid>
              <a:tr h="1618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ff9900"/>
                          </a:solidFill>
                          <a:latin typeface="Trebuchet MS"/>
                        </a:rPr>
                        <a:t>Introduzio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9900"/>
                      </a:solidFill>
                    </a:lnR>
                    <a:lnT>
                      <a:noFill/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Titolo. Poniamo il problema, il suo contesto e la cornice spazio-temporale. Motivazioni alla realizzazione dello studio. Formulazione della domanda cui dare risposta. Definizione dell’Oggetto di Studio esplicitando l’interesse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</a:tr>
              <a:tr h="23551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ff9900"/>
                          </a:solidFill>
                          <a:latin typeface="Trebuchet MS"/>
                        </a:rPr>
                        <a:t>Svilupp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Relazione breve sull’analisi in Statica (ambiti Maggiore, Medio e Minore)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Sullo studio in dinamica: processo e momento studiato, relazione con gli oggetti dell’ambito medio, elementi in trasformazione dell’ambito minore con i loro punti di connessione con l’ambiente esterno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Presentazione della sintesi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>
                      <a:noFill/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</a:tr>
              <a:tr h="13770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ff9900"/>
                          </a:solidFill>
                          <a:latin typeface="Trebuchet MS"/>
                        </a:rPr>
                        <a:t>Conclusio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Risposta alla domanda formulata che chiarisce il problema posto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Fonti di consultazione, autori del lavoro, dati per il contatto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>
                      <a:noFill/>
                    </a:lnR>
                    <a:lnT w="5760">
                      <a:solidFill>
                        <a:srgbClr val="ff99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55640" y="66600"/>
          <a:ext cx="1081080" cy="914400"/>
        </p:xfrm>
        <a:graphic>
          <a:graphicData uri="http://schemas.openxmlformats.org/drawingml/2006/table">
            <a:tbl>
              <a:tblPr/>
              <a:tblGrid>
                <a:gridCol w="1081080"/>
              </a:tblGrid>
              <a:tr h="2311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MAND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9900"/>
                      </a:solidFill>
                    </a:lnL>
                    <a:lnR w="13680">
                      <a:solidFill>
                        <a:srgbClr val="ff9900"/>
                      </a:solidFill>
                    </a:lnR>
                    <a:lnT w="13680">
                      <a:solidFill>
                        <a:srgbClr val="ff9900"/>
                      </a:solidFill>
                    </a:lnT>
                    <a:lnB w="13680">
                      <a:solidFill>
                        <a:srgbClr val="ff99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ALIS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9900"/>
                      </a:solidFill>
                    </a:lnL>
                    <a:lnR w="13680">
                      <a:solidFill>
                        <a:srgbClr val="ff9900"/>
                      </a:solidFill>
                    </a:lnR>
                    <a:lnT w="13680">
                      <a:solidFill>
                        <a:srgbClr val="ff9900"/>
                      </a:solidFill>
                    </a:lnT>
                    <a:lnB w="13680">
                      <a:solidFill>
                        <a:srgbClr val="ff99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SPOST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9900"/>
                      </a:solidFill>
                    </a:lnL>
                    <a:lnR w="13680">
                      <a:solidFill>
                        <a:srgbClr val="ff9900"/>
                      </a:solidFill>
                    </a:lnR>
                    <a:lnT w="13680">
                      <a:solidFill>
                        <a:srgbClr val="ff9900"/>
                      </a:solidFill>
                    </a:lnT>
                    <a:lnB w="13680">
                      <a:solidFill>
                        <a:srgbClr val="b2b2b2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PLICAZIO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9900"/>
                      </a:solidFill>
                    </a:lnL>
                    <a:lnR w="13680">
                      <a:solidFill>
                        <a:srgbClr val="ff9900"/>
                      </a:solidFill>
                    </a:lnR>
                    <a:lnT w="13680">
                      <a:solidFill>
                        <a:srgbClr val="b2b2b2"/>
                      </a:solidFill>
                    </a:lnT>
                    <a:lnB w="13680">
                      <a:solidFill>
                        <a:srgbClr val="ff9900"/>
                      </a:solidFill>
                    </a:lnB>
                    <a:solidFill>
                      <a:srgbClr val="ff9900"/>
                    </a:solidFill>
                  </a:tcPr>
                </a:tc>
              </a:tr>
            </a:tbl>
          </a:graphicData>
        </a:graphic>
      </p:graphicFrame>
    </p:spTree>
  </p:cSld>
  <p:transition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21T07:39:36Z</dcterms:created>
  <dc:creator>pc</dc:creator>
  <dc:description/>
  <dc:language>en-US</dc:language>
  <cp:lastModifiedBy>Roberta Consilvio</cp:lastModifiedBy>
  <dcterms:modified xsi:type="dcterms:W3CDTF">2006-12-18T23:33:48Z</dcterms:modified>
  <cp:revision>45</cp:revision>
  <dc:subject/>
  <dc:title>Diapositiva 1</dc:title>
</cp:coreProperties>
</file>